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EFA-513D-4E28-8D11-492E542F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FB0-BBAE-4F8D-B410-E4542D5A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325-A4D4-41DB-97BD-6072AD79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FC5-BB19-4592-86FC-58AF146E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B768-753F-4C0F-9C94-35F835AF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4D34-769D-4232-B639-06DC899D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743E-1510-4574-965C-82AB5D6F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BF8D-E954-4EEB-9B83-66F6F5CA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FA80-569C-45DD-AFAD-269128C6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4B23-6CBC-4538-8DEB-C8037517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9A86-194C-447C-95CD-C8CDF498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15F-DC12-41FE-9731-BE3B1FE3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3868-E709-42A1-A795-1AC3F594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4044-0796-4E1F-B9A1-1AA986C6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EEC1-1142-4BA3-8223-D4C7340B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3D25-BC26-40E2-B73E-46C3665F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4CBE-0087-4E85-9FEA-62CE38E3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80D-EAF0-4591-AE0B-044221A1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EBDD-6047-4DEC-A7DE-89AB9F7F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1E6-87CB-4F2F-AA90-CEB0C097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00A-1D66-4CD3-85B3-05656879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11D-9221-46A3-BCFB-4AF0B130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657-A7EC-4BEE-803E-5D9D6E7E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6A5-FA6C-49C6-9E6C-34E8484F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113A-24E5-4FFF-84A5-38EDE82D307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03E2-5763-4820-B872-E41A94CDF30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achervision.com/lesson-plans/lesson-2204.html" TargetMode="External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4c2b"/>
                </a:solidFill>
                <a:latin typeface="Arial"/>
              </a:rPr>
              <a:t>Multiple Intelligences</a:t>
            </a:r>
            <a:endParaRPr b="0" lang="en-US" sz="5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33"/>
                </a:solidFill>
                <a:latin typeface="Arial"/>
              </a:rPr>
              <a:t>Howard Gardner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4c2b"/>
                </a:solidFill>
                <a:latin typeface="Arial"/>
              </a:rPr>
              <a:t>Naturalist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Nature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Classification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Flora/Fauna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Pattern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Environment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Sorting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Memory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70360" y="1981080"/>
            <a:ext cx="3564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c2b"/>
                </a:solidFill>
                <a:latin typeface="Arial"/>
              </a:rPr>
              <a:t>Naturalist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</a:rPr>
              <a:t>Occupa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Biologist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Zoologist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Artists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Environmentalist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Landscaper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Game warden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33"/>
                </a:solidFill>
                <a:uFillTx/>
                <a:latin typeface="Arial"/>
              </a:rPr>
              <a:t>Famous People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Charles Darwin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John Audubon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Meriwether Lewis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Carl Sagan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Arial"/>
              </a:rPr>
              <a:t>Verbal/Linguistic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Reading/Writing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Debate/Speech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Word puzzles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Spelling/Vocab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Languages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Listening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Arial"/>
              </a:rPr>
              <a:t>Verbal/Linguistic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</a:rPr>
              <a:t>Occupa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Write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peake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Acto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eacher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Attorney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oliticia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33"/>
                </a:solidFill>
                <a:uFillTx/>
                <a:latin typeface="Arial"/>
              </a:rPr>
              <a:t>Famous People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Abraham Lincoln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Jerry Seinfeld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Martin L. King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T.S. Eliot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Hemingway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4c2b"/>
                </a:solidFill>
                <a:latin typeface="Arial"/>
              </a:rPr>
              <a:t>Musical/Rhythmic</a:t>
            </a:r>
            <a:endParaRPr b="0" lang="en-US" sz="6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ing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laying instrument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hythms/beat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mpos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oun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itc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3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Arial"/>
              </a:rPr>
              <a:t>Musical/Rhythmic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</a:rPr>
              <a:t>Occupa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mposer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nductor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inger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DJ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roduce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usicia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Famous Peop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enry Mancin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ul McCartne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za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uciano Pavarott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gor Stravinsk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eonard Bernstei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Arial"/>
              </a:rPr>
              <a:t>Intrapersonal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elf-reflec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Know Thyself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Journal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Emotional Process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ncentr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Focus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8320" y="2527200"/>
            <a:ext cx="3809880" cy="3022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WHOO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4c2b"/>
                </a:solidFill>
                <a:latin typeface="Arial"/>
              </a:rPr>
              <a:t>Intrapersonal</a:t>
            </a:r>
            <a:endParaRPr b="0" lang="en-US" sz="6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</a:rPr>
              <a:t>Occupa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sychologis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search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lite Athle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hilosoph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plor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Times New Roman"/>
              </a:rPr>
              <a:t>Famous Peop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Times New Roman"/>
              </a:rPr>
              <a:t>Socrates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Times New Roman"/>
              </a:rPr>
              <a:t>Emily Dickinson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Times New Roman"/>
              </a:rPr>
              <a:t>Sigmund Freud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Times New Roman"/>
              </a:rPr>
              <a:t>Marie Montessori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Times New Roman"/>
              </a:rPr>
              <a:t>Plato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4c2b"/>
                </a:solidFill>
                <a:latin typeface="Arial"/>
              </a:rPr>
              <a:t>Interpersonal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Cooperative Groups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Collaboration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Sensing/Intuiting others feelings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Uses feedback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Empathy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WHOO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c2b"/>
                </a:solidFill>
                <a:latin typeface="Arial"/>
              </a:rPr>
              <a:t>Interpersonal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</a:rPr>
              <a:t>Occupa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eache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alespeop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ocial worke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unselo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Doctor/Nurs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sychiatris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33"/>
                </a:solidFill>
                <a:uFillTx/>
                <a:latin typeface="Arial"/>
              </a:rPr>
              <a:t>Famous People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Mother Theresa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Barbara Walters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Mahatma Gandhi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Jimmy Carter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Larry King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4c2b"/>
                </a:solidFill>
                <a:latin typeface="Arial"/>
              </a:rPr>
              <a:t>It’s not how smart we are;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33"/>
                </a:solidFill>
                <a:latin typeface="Arial"/>
              </a:rPr>
              <a:t>It’s how we are smart.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4c2b"/>
                </a:solidFill>
                <a:latin typeface="Arial"/>
              </a:rPr>
              <a:t>Overview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Verbal/Linguistic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Logical/Mathematical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Musical/Rhythmic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Naturalis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Visual/Spatial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Intrapersonal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Interpersonal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Bodily/Kinesthetic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Word smar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logic smar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music smar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classifying smar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art smar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self smar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people smar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body smart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Arial"/>
              </a:rPr>
              <a:t>Multiple Intelligenc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veryone has all eight of them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re are many ways to be “smart” in any one intelligence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re not often isolated and usually work together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ith work, most people can become reasonably competent in all intellgenc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ssessment web sit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440" y="1969920"/>
            <a:ext cx="2201400" cy="520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dd7e5"/>
                </a:solidFill>
                <a:uFillTx/>
                <a:latin typeface="Arial"/>
                <a:hlinkClick r:id="rId2"/>
              </a:rPr>
              <a:t>teachervis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5440" y="2655720"/>
            <a:ext cx="2478960" cy="520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eachervision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6160" y="3341520"/>
            <a:ext cx="3428280" cy="520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ccelerated learn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120" y="4027320"/>
            <a:ext cx="4242240" cy="520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1</a:t>
            </a:r>
            <a:r>
              <a:rPr b="0" lang="en-US" sz="2800" spc="-1" strike="noStrike" baseline="30000">
                <a:solidFill>
                  <a:srgbClr val="333333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Century Schoolhous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2720" y="4800600"/>
            <a:ext cx="4095720" cy="520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 Think…Therefore…M.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2480" y="5627520"/>
            <a:ext cx="1783800" cy="520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ulti-intel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87640" y="1817640"/>
            <a:ext cx="1303920" cy="520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D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3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4c2b"/>
                </a:solidFill>
                <a:latin typeface="Arial"/>
              </a:rPr>
              <a:t>Intelligence</a:t>
            </a:r>
            <a:endParaRPr b="0" lang="en-US" sz="9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Definition- aptitude (the ability to learn)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Multiple Intelligences explain how we lear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Arial"/>
              </a:rPr>
              <a:t>Visual/Spatial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91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inks in 3-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ictures in min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Great imagin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Hand-eye relationship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Design/colo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3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Arial"/>
              </a:rPr>
              <a:t>Visual/Spatial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Times New Roman"/>
              </a:rPr>
              <a:t>Occupa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ail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ulptors/paint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ngine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ilo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sign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rchitec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rge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Times New Roman"/>
              </a:rPr>
              <a:t>Famous Peop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. da Vinc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icass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rank Lloyd Wrigh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obby Fisch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.M.Pe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guste Rodi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Arial"/>
              </a:rPr>
              <a:t>Logical/Mathematical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eas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Analyz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Uses logi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Uses number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roblem-solv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ees patter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11480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Arial"/>
              </a:rPr>
              <a:t>Logical/Mathematical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Occup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athematici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cientis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ccountant/Bank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vento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tectiv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gine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gramm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Famous Peop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lbert Einstei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tephan Hawk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gatha Christ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rl Sag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4c2b"/>
                </a:solidFill>
                <a:latin typeface="Arial"/>
              </a:rPr>
              <a:t>Bodily/Kinesthetic</a:t>
            </a:r>
            <a:endParaRPr b="0" lang="en-US" sz="65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80920" y="1981080"/>
            <a:ext cx="341964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Activity/motion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Hands-on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Experimental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Manipulate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Participate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Body language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3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4c2b"/>
                </a:solidFill>
                <a:latin typeface="Arial"/>
              </a:rPr>
              <a:t>Bodily/Kinesthetic</a:t>
            </a:r>
            <a:endParaRPr b="0" lang="en-US" sz="6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Arial"/>
              </a:rPr>
              <a:t>Occupa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Athlet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Dancer/Acto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erforme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Physical Therapis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ac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33"/>
                </a:solidFill>
                <a:uFillTx/>
                <a:latin typeface="Arial"/>
              </a:rPr>
              <a:t>Famous People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Marcel Marceau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Michael Jordan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Babe Ruth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Kristy Yamaguchi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Arial"/>
              </a:rPr>
              <a:t>Jackie Joyner-Kersey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05:01:20Z</dcterms:created>
  <dc:creator>Stephanie Hanson</dc:creator>
  <dc:description/>
  <dc:language>en-US</dc:language>
  <cp:lastModifiedBy>Stephanie Hansen</cp:lastModifiedBy>
  <cp:lastPrinted>2001-01-05T05:45:01Z</cp:lastPrinted>
  <dcterms:modified xsi:type="dcterms:W3CDTF">2001-11-20T19:58:50Z</dcterms:modified>
  <cp:revision>16</cp:revision>
  <dc:subject/>
  <dc:title>Multiple Intelligences</dc:title>
</cp:coreProperties>
</file>